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5.wmf" ContentType="image/x-wmf"/>
  <Override PartName="/ppt/media/image6.jpeg" ContentType="image/jpeg"/>
  <Override PartName="/ppt/media/applause.wav" ContentType="audio/x-wav"/>
  <Override PartName="/ppt/media/explode.wav" ContentType="audio/x-wav"/>
  <Override PartName="/ppt/media/driveby.wav" ContentType="audio/x-wav"/>
  <Override PartName="/ppt/media/cashreg.wav" ContentType="audio/x-wav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drumroll.wav" ContentType="audio/x-wav"/>
  <Override PartName="/ppt/media/gunshot.wav" ContentType="audio/x-wav"/>
  <Override PartName="/ppt/media/image15.jpeg" ContentType="image/jpeg"/>
  <Override PartName="/ppt/media/type.wav" ContentType="audio/x-wav"/>
  <Override PartName="/ppt/media/image13.jpeg" ContentType="image/jpeg"/>
  <Override PartName="/ppt/media/projctor.wav" ContentType="audio/x-wav"/>
  <Override PartName="/ppt/media/chimes.wav" ContentType="audio/x-wav"/>
  <Override PartName="/ppt/media/image11.jpeg" ContentType="image/jpeg"/>
  <Override PartName="/ppt/media/image9.jpeg" ContentType="image/jpeg"/>
  <Override PartName="/ppt/media/camera.wav" ContentType="audio/x-wav"/>
  <Override PartName="/ppt/media/image8.jpeg" ContentType="image/jpeg"/>
  <Override PartName="/ppt/media/image10.jpeg" ContentType="image/jpeg"/>
  <Override PartName="/ppt/media/image14.jpeg" ContentType="image/jpeg"/>
  <Override PartName="/ppt/media/carbrake.wav" ContentType="audio/x-wav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305-0758-4627-A8C4-68AA81B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A18-5D9F-4142-9DCB-F84BE6F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91F-287A-4033-87EF-15778ACC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56D-108E-44E2-9425-A0E04B4B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4ED4-6FED-438F-8EAC-C02E91D7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412-B2FA-42E3-BF87-F1341AC8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3DD-4AC6-4D96-BDFD-3A634CFD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BD75-CFFB-471A-956E-4A376893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48BA-76D6-4CC6-9B45-A13603AE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9A6E-25D2-49A6-8DFE-E9EA8312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4AA4-6318-4799-B1F9-47721AF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37F-95FE-43AB-9A92-4D40604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909-8D65-49B8-B6E7-181493D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552B-6AEF-435B-8695-1071893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F938-1577-42C5-BCD7-C6D4A18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5544-3231-4403-BA86-2F98BE0E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AF4C-9A27-49CA-894F-321CC838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CB2-F19F-4C05-98A1-5719F48E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C86-7EA1-4E10-9C8D-C91C401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B13-4386-429E-80BB-D1D0060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C6C-CF5A-410D-BE44-44E5F962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1B8-45D8-427F-AC3D-9E5A136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3DA-CA70-44BB-AEA1-1AF7996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FE5-AD79-4B25-AF79-117D225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438-2F6F-4026-990E-5CD459A4D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E5B-5C83-4E63-BB61-0E31D706F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rds.yahoo.com/S=96062857/K=rosa+parks/v=2/SID=e/l=II/R=60/SS=i/OID=f78d2cf7faef8122/SIG=1fa56ordp/EXP=1137289532/*-http%3A/images.search.yahoo.com/search/images/view?back=http%3A%2F%2Fimages.search.yahoo.com%2Fsearch%2Fimages%3Fp%3Drosa%2Bparks%26s" TargetMode="External"/><Relationship Id="rId4" Type="http://schemas.openxmlformats.org/officeDocument/2006/relationships/hyperlink" Target="http://rds.yahoo.com/S=96062857/K=rosa+parks/v=2/SID=e/l=II/R=60/SS=i/OID=f78d2cf7faef8122/SIG=1fa56ordp/EXP=1137289532/*-http%3A/images.search.yahoo.com/search/images/view?back=http%3A%2F%2Fimages.search.yahoo.com%2Fsearch%2Fimages%3Fp%3Drosa%2Bparks%26s" TargetMode="External"/><Relationship Id="rId5" Type="http://schemas.openxmlformats.org/officeDocument/2006/relationships/image" Target="../media/image3.jpeg"/><Relationship Id="rId6" Type="http://schemas.openxmlformats.org/officeDocument/2006/relationships/audio" Target="../media/chimes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43000"/>
            <a:ext cx="77724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ffff"/>
                </a:solidFill>
                <a:latin typeface="Tahoma"/>
              </a:rPr>
              <a:t>Rosa Parks</a:t>
            </a:r>
            <a:endParaRPr b="0" lang="en-US" sz="9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Tahoma"/>
              </a:rPr>
              <a:t>1913-2005</a:t>
            </a:r>
            <a:endParaRPr b="0" lang="en-US" sz="8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agram Of B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95280" y="1763640"/>
            <a:ext cx="7315200" cy="48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other Police Re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Cli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Go to fullsize image"/>
          <p:cNvPicPr/>
          <p:nvPr/>
        </p:nvPicPr>
        <p:blipFill>
          <a:blip r:embed="rId2"/>
          <a:stretch/>
        </p:blipFill>
        <p:spPr>
          <a:xfrm>
            <a:off x="457200" y="1828800"/>
            <a:ext cx="404352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Go to fullsize image"/>
          <p:cNvPicPr/>
          <p:nvPr/>
        </p:nvPicPr>
        <p:blipFill>
          <a:blip r:embed="rId3"/>
          <a:stretch/>
        </p:blipFill>
        <p:spPr>
          <a:xfrm>
            <a:off x="4800600" y="1752480"/>
            <a:ext cx="404640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724320"/>
            <a:ext cx="8686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osa Parks died in 2005 at age 92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6" name="" descr="Go to fullsize image"/>
          <p:cNvPicPr/>
          <p:nvPr/>
        </p:nvPicPr>
        <p:blipFill>
          <a:blip r:embed="rId2"/>
          <a:stretch/>
        </p:blipFill>
        <p:spPr>
          <a:xfrm>
            <a:off x="1447920" y="1257480"/>
            <a:ext cx="579096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As a Ki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29080" y="1981080"/>
            <a:ext cx="3814560" cy="4114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>
            <a:hlinkClick r:id="rId3"/>
          </p:cNvPr>
          <p:cNvSpPr/>
          <p:nvPr/>
        </p:nvSpPr>
        <p:spPr>
          <a:xfrm>
            <a:off x="419580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612885978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600200"/>
            <a:ext cx="5029200" cy="48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olice Taking Rosa`s Fingerprin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6640" y="2514600"/>
            <a:ext cx="2367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tired I wa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tired of giving 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6477120" cy="46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`s Fingerprint C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33720" y="1600200"/>
          <a:ext cx="6400800" cy="4800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600200"/>
                    <a:ext cx="6400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eets of Rosa Parks and ML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34204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dlSR__ctl26_imagePreview_thumbnail" descr="42-15941634 - Street signs mark the corner of Rosa Parks Blvd and Martin Luther King Jr Blvd in Detroit"/>
          <p:cNvPicPr/>
          <p:nvPr/>
        </p:nvPicPr>
        <p:blipFill>
          <a:blip r:embed="rId2"/>
          <a:stretch/>
        </p:blipFill>
        <p:spPr>
          <a:xfrm>
            <a:off x="1295280" y="1795320"/>
            <a:ext cx="7467840" cy="46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 Rosa Rode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126120" cy="45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In Jail ( # 705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1962000"/>
            <a:ext cx="5181840" cy="421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`s Police Re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6934320" cy="52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sa In B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143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16292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1:09:10Z</dcterms:created>
  <dc:creator>Andrew R. Perrong</dc:creator>
  <dc:description/>
  <dc:language>en-US</dc:language>
  <cp:lastModifiedBy>lyerkes</cp:lastModifiedBy>
  <dcterms:modified xsi:type="dcterms:W3CDTF">2011-01-25T17:25:16Z</dcterms:modified>
  <cp:revision>20</cp:revision>
  <dc:subject/>
  <dc:title>Rosa Parks</dc:title>
</cp:coreProperties>
</file>